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F625-4D86-4D5B-83C0-2FCF4B1A4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C460-1299-4D01-99A5-B3B9FD47543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679-CB6E-48CD-876C-9365829C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204-38FE-442E-8B66-4FF91FD3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0EC-BB5A-4385-B664-4A99F7DD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FB0-66B8-4691-B622-004933D2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7243-E46F-40AF-8C3B-67301676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35AF-9796-468C-93A4-B3BCE00F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F7CC-D543-487A-8690-CFBC94A3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872D-69D8-443E-8577-3446066B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6D5E-8A63-4F6C-8404-6C9B4C39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AFC4-6074-401E-8C15-09AD8A4C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50E7-54D9-4F26-90DF-D4329225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AF5A-3D58-4FC2-A2A9-8467D042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ED14-ED9B-4A93-B8DC-7732B713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A7D3-8FEE-49F8-BF1B-89663D5D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72EE-CDB7-41A5-94A6-134D5123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7985-DFC6-4A72-9A3A-FC64BA7E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BEF8-CB5E-4020-B642-C47C57B4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271C1-A40A-4C7B-AC23-59A9F22E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C8055-9DA5-4B65-9959-3B62E399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AD8A-25EB-4223-9602-56CD20A1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2743A-F204-4F51-B6CE-95C5BA60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FEFF6-CF55-4F26-96BE-B62F1013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A56-A945-461E-9E77-97FD0150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97AA4-ABBB-41D9-B835-B685D438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63157-7206-4CA6-9FA8-4235CFF1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6D8EE-2998-4467-88A3-51380BC9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FACAB-5DC9-4290-A865-59A70ED5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A18EB-72F5-48DB-8850-C0BD7FC5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413F7-11B0-4448-A9F2-7FD79541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64B8A-9298-482D-B899-A71F4CC0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6FC67-3C89-4EA2-8C22-D664E4CE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FED98-E002-4E4E-92B7-23AAAED1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5F736-5143-4B62-9043-5020B8B3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117-6F68-4163-B93F-E98EF540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DCDAE-CF7C-4E2C-BD9E-C044E90F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E0776-32CF-4004-97A4-314BC1D0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82D8C-011D-47D3-BE92-A7F882ED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D868E-9531-4F06-A2BB-E5D98F2A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0E447-1AC8-4641-8CF4-AED04B27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6AE02-9D27-445E-8126-F5629AB8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AA31A-E833-4285-AF0B-E4736F13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7A1D1-7275-4CBF-952C-C598A94F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6A72F-F278-4241-BA2C-74CB3524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2755B-3166-4540-8018-23FC2601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234-F046-4562-84ED-EC0261E0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78934-CB0B-4F17-B91C-CFA3972B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596E8-6E0A-4872-92B9-8CEBD318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E9716-F820-4E10-A89A-7662B5A0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5E26D-A3FA-4B47-A163-668EB0B0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4751B-1AB3-44A7-A9BC-87848770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8CB77-C53C-41B2-9D1D-04901F1F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24A13-A92E-4130-889E-A5FB3F91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662CF-7C89-4E10-989C-E5748702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8F3BC-E4C6-42F1-97BA-13E289E8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4F77D-AD26-44C7-8AAF-8D828CC1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3E4-4599-4E65-A8E3-5AFA29DD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85163-8A5B-4598-9F5E-888467EB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ADE550-78A8-416A-8A97-DAF6923D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B740A-EC00-4112-8103-CE1D0A95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32E68-C2D6-45DF-B367-ACC682C2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28E463-AF1E-48CC-8AEE-56771C00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ED63E-AD7D-48B7-A06F-1002ADA6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70AF4-FC5E-4967-9C24-5A36DDE1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4840A-A4B4-4D5C-A9DF-2204E133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86C05B-A366-44DC-B56D-89495184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5EF5B9-1E48-4231-BD9F-4B1DD5B3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5BF-A4F5-4CE4-B748-FAF74057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F73DB-DD7F-421E-ABAC-03054529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EBE52-4AB7-4035-94D7-B466C50B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0DCD9-7B82-4165-8CEF-3A1B1BFB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DC22B-BEEE-40FC-AC29-44AF61EF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2C20E-7635-498A-8F59-289AC13A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3A05C-38DD-47A8-B382-D9859239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A21B4-3574-40FD-8ED8-3C835D8B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AD9AF-1E10-4B89-BD00-AA7841AE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56FD2-3A36-4229-9265-223D896D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42095-6CA2-4B3D-84E0-C6DBBCF5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9A5-2A9D-4E56-95A0-CE29B94B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6EC3A-BF89-4AE8-A051-B7CD3AC8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FD802-34DF-4FF3-8A07-2A691D3D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60980-20F1-4917-B315-51EF55F8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147E5-48F9-4A0E-A6C1-478C6D91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B0CA3-489C-49B4-8EFB-1589D743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4E6-CEF1-42B2-A113-857C1DB4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1AE4-442B-44E2-9FDC-2A1C4E9ABD27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7072-70A8-4846-8895-450FA3804CF8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74680"/>
            <a:ext cx="8594640" cy="1334880"/>
            <a:chOff x="274680" y="274680"/>
            <a:chExt cx="859464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74680"/>
              <a:ext cx="8594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68880"/>
            <a:chOff x="341280" y="2938320"/>
            <a:chExt cx="7156440" cy="246888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62EA-7B1D-4454-B92C-CA20FC712648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9BCA-3633-4063-871B-863FBC6571C9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A4A2-40A6-4CE8-BDE0-93B8C09F9935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1E6F-E2B7-4EDE-970C-853653EA987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8A1E-424D-4E6B-B1C5-75E5862908B7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043D-7EA6-4F0E-B7F1-E75390FF4035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4800"/>
            <a:ext cx="2725560" cy="3524400"/>
            <a:chOff x="554040" y="1504800"/>
            <a:chExt cx="272556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4800"/>
              <a:ext cx="272556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39D2-2035-4DF0-ACED-087DCB2ABE99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F75C-91A3-4754-BD06-D75502581E1D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78880" cy="1377720"/>
            <a:chOff x="682560" y="4950000"/>
            <a:chExt cx="7778880" cy="137772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7888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F053-9928-4219-A892-C6EB530F671A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2D11-5079-4544-92A8-D78F45DFF00E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C580-B716-4C50-B5A6-BDD56BB5153B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A340-61C7-49F4-95AB-9963BC171019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etrokids.com/MetroKids/November-2012/Bullies-parents-can-be-sued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remlindog.com/category/random-ridiculous/" TargetMode="External"/><Relationship Id="rId2" Type="http://schemas.openxmlformats.org/officeDocument/2006/relationships/hyperlink" Target="http://gremlindog.com/category/random-ridiculous/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quebec.huffingtonpost.ca/senator-mobina-jaffer/similarites-cyberintimidation-intimidation-en-personne_b_3660533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7gJPpy1XX0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topbullying.gov/at-risk/effects/" TargetMode="External"/><Relationship Id="rId2" Type="http://schemas.openxmlformats.org/officeDocument/2006/relationships/hyperlink" Target="http://www.bullyingstatistics.org/content/why-do-people-bully.html" TargetMode="External"/><Relationship Id="rId3" Type="http://schemas.openxmlformats.org/officeDocument/2006/relationships/hyperlink" Target="http://www.dosomething.org/tipsandtools/11-facts-about-cyber-bullying" TargetMode="External"/><Relationship Id="rId4" Type="http://schemas.openxmlformats.org/officeDocument/2006/relationships/hyperlink" Target="http://www.bullyingstatistics.org/content/cyber-bullying-statistics.html" TargetMode="External"/><Relationship Id="rId5" Type="http://schemas.openxmlformats.org/officeDocument/2006/relationships/hyperlink" Target="http://www.larousse.fr/dictionnaires/francais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icturesof.net/pages/100604-002117-620053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desinc.org/2012/06/18/let-go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hutterstock.com/pic-102244813/stock-photo-crowd-of-sports-spectators-seamless-repeats-horizontally-and-can-be-stacked-vertically-to-make-a.html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anradin.blogspot.com/2013/04/show-me-evidence.html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odahead.com/living/if-either-your-parents-threaten-to-hurt-you-physically-would-you-believe-them-do-you-think-they-lov/question-755459/?link=ibaf&amp;q=&amp;esrc=s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actherat.wordpress.com/2012/10/13/bullying-a-lifetime-calling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ungryforgodsword.blogspot.com/2012/03/looking-at-each-other-for-lifetime.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mreen gill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7534c"/>
                </a:solidFill>
                <a:latin typeface="Book Antiqua"/>
              </a:rPr>
              <a:t>La Cyberintimidation 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354400" y="0"/>
            <a:ext cx="43336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S’intensifier: devenir plus intens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metrokids.com/MetroKids/November-2012/Bullies-parents-can-be-sued/</a:t>
            </a: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3238560" y="2573280"/>
            <a:ext cx="264636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Railler: tourner en dérision, ridiculiser quelqu’un ou quelque chose par des moqueries, des plaisanteries plus ou moins vive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</a:t>
            </a:r>
            <a:r>
              <a:rPr b="0" lang="fr-FR" sz="2000" spc="-1" strike="noStrike" u="sng">
                <a:solidFill>
                  <a:srgbClr val="cccc00"/>
                </a:solidFill>
                <a:uFillTx/>
                <a:latin typeface="Century Gothic"/>
                <a:hlinkClick r:id="rId2"/>
              </a:rPr>
              <a:t>://gremlindog.com/category/random-ridiculous/</a:t>
            </a:r>
            <a:r>
              <a:rPr b="0" lang="fr-FR" sz="20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3"/>
          <a:stretch/>
        </p:blipFill>
        <p:spPr>
          <a:xfrm>
            <a:off x="3137040" y="2900520"/>
            <a:ext cx="28573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En France et en états-unis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es élevés en général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Se suicider statique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En Québec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’articl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80468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quebec.huffingtonpost.ca/senator-mobina-jaffer/similarites-cyberintimidation-intimidation-en-personne_b_3660533.html</a:t>
            </a:r>
            <a:r>
              <a:rPr b="0" lang="fr-CA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564b3c"/>
                </a:solidFill>
                <a:latin typeface="Century Gothic"/>
              </a:rPr>
              <a:t>Question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64b3c"/>
                </a:solidFill>
                <a:latin typeface="Century Gothic"/>
              </a:rPr>
              <a:t>Selon cette article, pourquoi les gens intimident en réalité?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64b3c"/>
                </a:solidFill>
                <a:latin typeface="Century Gothic"/>
              </a:rPr>
              <a:t>Quel est PREVNET? Quel est l’objectif de PREVNET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64b3c"/>
                </a:solidFill>
                <a:latin typeface="Century Gothic"/>
              </a:rPr>
              <a:t>Doit-on intervenir avec une grande groupe ou avec les individus? Pourquoi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es caus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Culturell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Social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’histoire de famill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’histoire personnell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a lutte de puissanc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es effet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a dépression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’anxiété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Pensées suicidaire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Problèmes de santé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a diminution dans la sucés académiqu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a vidéo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youtube.com/watch?v=17gJPpy1XX0</a:t>
            </a: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Question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64b3c"/>
                </a:solidFill>
                <a:latin typeface="Century Gothic"/>
              </a:rPr>
              <a:t>Quel est l’opinion de ces gens au sujet de comment la police ont besoin d’intervenir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64b3c"/>
                </a:solidFill>
                <a:latin typeface="Century Gothic"/>
              </a:rPr>
              <a:t>Quel est le projet ‘Ultimatum?’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64b3c"/>
                </a:solidFill>
                <a:latin typeface="Century Gothic"/>
              </a:rPr>
              <a:t>Quel est l’opinion de ces jeunes au sujet de la cyberintimdation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428760" y="250920"/>
          <a:ext cx="8264520" cy="6367320"/>
        </p:xfrm>
        <a:graphic>
          <a:graphicData uri="http://schemas.openxmlformats.org/drawingml/2006/table">
            <a:tbl>
              <a:tblPr/>
              <a:tblGrid>
                <a:gridCol w="2754000"/>
                <a:gridCol w="2756160"/>
                <a:gridCol w="275436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dui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atiqu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ersp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93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’épreuv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es réferences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stopbullying.gov/at-risk/effects/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00"/>
                </a:solidFill>
                <a:uFillTx/>
                <a:latin typeface="Century Gothic"/>
                <a:hlinkClick r:id="rId2"/>
              </a:rPr>
              <a:t>http://www.bullyingstatistics.org/content/why-do-people-bully.html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00"/>
                </a:solidFill>
                <a:uFillTx/>
                <a:latin typeface="Century Gothic"/>
                <a:hlinkClick r:id="rId3"/>
              </a:rPr>
              <a:t>http://www.dosomething.org/tipsandtools/11-facts-about-cyber-bullying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00"/>
                </a:solidFill>
                <a:uFillTx/>
                <a:latin typeface="Century Gothic"/>
                <a:hlinkClick r:id="rId4"/>
              </a:rPr>
              <a:t>http://www.bullyingstatistics.org/content/cyber-bullying-statistics.htm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00"/>
                </a:solidFill>
                <a:uFillTx/>
                <a:latin typeface="Century Gothic"/>
                <a:hlinkClick r:id="rId5"/>
              </a:rPr>
              <a:t>http://www.larousse.fr/dictionnaires/francai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ttp://files.efc-canada.net/si/Education/By_the_Numbers_Bullying_Report_April_2012.pdf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6b7d72"/>
                </a:solidFill>
                <a:latin typeface="Book Antiqua"/>
              </a:rPr>
              <a:t>Les questions pre-présentation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Que savez-vous de la cyberintimidation?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Quelle sont les causes de la cyberintimidation?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Quelles sont les similarités entre la cyberintimidation et l’intimidation en réalité? Différences?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Intervenir: se mêler d’une action, d’une situation en cours en vue d’influer sur le cours des événement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picturesof.net/pages/100604-002117-620053.html</a:t>
            </a: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3048120" y="3220920"/>
            <a:ext cx="30477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Intimider: inspirer à quelqu’un une crainte, un trouble qui lui font perdre son assuranc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tidesinc.org/2012/06/18/let-go/</a:t>
            </a: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2876400" y="2581200"/>
            <a:ext cx="29545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Témoin: personne qui a vu ou entendu quelque chose, et qui peut éventuellement le certifier, le rapporter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shutterstock.com/pic-102244813/stock-photo-crowd-of-sports-spectators-seamless-repeats-horizontally-and-can-be-stacked-vertically-to-make-a.html</a:t>
            </a:r>
            <a:r>
              <a:rPr b="0" lang="fr-FR" sz="1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3098880" y="2768760"/>
            <a:ext cx="2946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Témoignage: déclaration, déposition d’un témoin en justic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deanradin.blogspot.com/2013/04/show-me-evidence.html</a:t>
            </a: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3301920" y="28558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Menacer: chercher à intimider quelqu’un en lui faisant craindre quelque chose, en usant de menace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sodahead.com/living/if-either-your-parents-threaten-to-hurt-you-physically-would-you-believe-them-do-you-think-they-lov/question-755459/?link=ibaf&amp;q=&amp;esrc=s</a:t>
            </a:r>
            <a:r>
              <a:rPr b="0" lang="fr-FR" sz="1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2814480" y="2803680"/>
            <a:ext cx="31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Harcèle: soumettre quelqu’un, un groupe à d’incessantes petites attaque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jactherat.wordpress.com/2012/10/13/bullying-a-lifetime-calling/</a:t>
            </a: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2819520" y="2797200"/>
            <a:ext cx="3492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Contrefaçon: action d’imiter frauduleusement un objet ayant un caractère public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hungryforgodsword.blogspot.com/2012/03/looking-at-each-other-for-lifetime.html</a:t>
            </a:r>
            <a:r>
              <a:rPr b="0" lang="fr-FR" sz="16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301920" y="2913120"/>
            <a:ext cx="25275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15:04:46Z</dcterms:created>
  <dc:creator>Amreen Gill</dc:creator>
  <dc:description/>
  <dc:language>en-US</dc:language>
  <cp:lastModifiedBy>Amreen Gill</cp:lastModifiedBy>
  <dcterms:modified xsi:type="dcterms:W3CDTF">2013-10-09T05:49:48Z</dcterms:modified>
  <cp:revision>27</cp:revision>
  <dc:subject/>
  <dc:title>Cyber Intimidation </dc:title>
</cp:coreProperties>
</file>